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028D-B53B-424D-A59F-063BFD75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C9EA-BB76-4135-A4BB-AAC50F06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084-BEA2-40BF-B5B0-9C35F249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D638-C0FA-42D7-8EAD-1C0D5C5F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E751-D96D-4D59-A5F8-6D54F905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AADC-575C-47E1-9785-69EA1341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713A-9D9F-47F6-917A-954F21EE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39DF-99CB-463F-A08F-889AE206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1AFC-1EA3-41FB-9978-0E6C3CF6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B4D1-1C9D-4043-850D-C12E6714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4087-751C-49E7-B7D5-99DB8C31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31A-D57F-43CF-B27B-6FFD319B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C11C-2038-4DD1-BEF7-530294C4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3795-BD95-4796-861F-E553BAC8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2575-580A-49EB-AC54-1097166B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E1B7-863C-4AC1-B6D4-1985B651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4441-F76C-4639-81AD-C9278204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C20-F6EC-4ADD-8424-7630D4DC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CF7-D316-4DD3-B4C8-01975AE7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591-9B4B-40DD-9074-39B277C8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DE46-D6D8-4EF9-A448-0D88A85B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DCF3-52C2-4AF1-AD50-88178C81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6DA9-5552-4CDD-A0DE-955BF935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B15-6A3C-412F-8A68-3F6DBA09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D290-63AF-4FEB-8833-CA2D9D25A63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90CE-A52F-4AAD-BF30-508DC8D5072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Go Tell The Good News – Part 1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11, Lesson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s 16:16 – 17: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97-1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aul’s 2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nd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Missionary Journe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353960"/>
            <a:ext cx="6629400" cy="5504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781680" y="1752480"/>
            <a:ext cx="2133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Today’s Lesson Paul Is At Point 12 on the Map (Philipp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Opposition At Philippi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6:16-24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ing A Demon-Possessed Girl –The Demon Made Money For People By Fortunetel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ame of Jesus and His Gospel Freed the Girl, but Angered Those Who Used Her for Prof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ul and Silas Are Arrested, Beaten, And Imprisoned (But, They Are Free Within Their Hear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Jailer Is Converted 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6:25-34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Hears Two Men Sing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Knows They Have Something Special With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Gives Himself A Death Sentence When He Thinks The Prisoners Escap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Gives Himself A Chance At Eternal Life When He Asks “What must I do to be saved?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Heard The Gospel and Was Baptized With Urgent Desire (Compare the Great Commission to Th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Servant of Jesus Christ, He Helps Paul and Si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aul and Silas Are Released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6:35-40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uthorities’ F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learn that they have mistreated Roman citiz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ristian’s Free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take advantage of physical free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return to Lydia’s h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meet with other believers before leaving t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Stop: Thessalon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note that Luke stays beh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t Thessalonic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227240"/>
            <a:ext cx="6781680" cy="5630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934320" y="167652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y Passed Through Amphipolis (Point 13) and Apollonia (Point 14) and stop in Thessalonica (Point 1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t Thessalonica 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7:1-9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ul Preaches In The Synagog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Reasoned With Them From Scrip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Pointed Out That The Christ Had To Suf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y Had Missed This Point As They Contemplated The Coming 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Pointed Out That The Christ Was Also To Rise From The Dead According to Their Scrip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y had Missed This Point Al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Urged Them To Believe That Jesus Is The Messi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Resulted In Some Noteworthy Conver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Also Stirred A Mob Ri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Opposition At Thessalonica</a:t>
            </a: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cts 17:5-9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son’s house is stormed in search of Paul and Si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son is taken before the city counc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ccusa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ul and Silas are charged with troublema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son is charged with allowing them to stay in his ho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ul and Silas are also accused of treason: “They profess allegiance to another king, Jesus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elease on bond and invitation to get out of tow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rethren there knew it was not safe for Paul and Silas to st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22:41:31Z</dcterms:created>
  <dc:creator>Gateway Client</dc:creator>
  <dc:description/>
  <dc:language>en-US</dc:language>
  <cp:lastModifiedBy>Frank D Vines</cp:lastModifiedBy>
  <dcterms:modified xsi:type="dcterms:W3CDTF">2007-03-07T15:32:44Z</dcterms:modified>
  <cp:revision>5</cp:revision>
  <dc:subject/>
  <dc:title>Go Tell The Good News –Part 1</dc:title>
</cp:coreProperties>
</file>